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CB8-B4B7-42E5-9B85-6AB42F6E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F77-7A76-4BA0-AD0E-CEF6314E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9F4-5311-46EA-B743-AB69D5AA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855-A00D-49DF-A31C-E0C39242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6BA-996C-4878-A32C-B70D6BDF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B39-02D4-4620-904D-F97EA840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8E6-BCD0-479E-84D6-883CB5E0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930-A96E-479B-A159-D57A6A16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688-419E-4186-BAA0-1689953A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801-3B9B-4B0C-86ED-D191417F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7CE-5DD5-4F46-8A40-4F4D6702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6F1-3892-4CE6-9D65-037B336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378A-38F5-42E8-BAF8-5C8DDA9261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opagación del calor por conv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art"/>
          <p:cNvPicPr/>
          <p:nvPr/>
        </p:nvPicPr>
        <p:blipFill>
          <a:blip r:embed="rId1"/>
          <a:stretch/>
        </p:blipFill>
        <p:spPr>
          <a:xfrm>
            <a:off x="900000" y="1268280"/>
            <a:ext cx="3240360" cy="2594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476360" y="479736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artículas de fluido son las que se desplazan. Tanto en líquidos como en gases, las porciones más calientes ascienden y las más frías descienden hacia la fuente de calor. Así se acaba calentando todo el fluido (agua en la olla o aire en una habitación caldeada con calefacción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KA-5911"/>
          <p:cNvPicPr/>
          <p:nvPr/>
        </p:nvPicPr>
        <p:blipFill>
          <a:blip r:embed="rId2"/>
          <a:stretch/>
        </p:blipFill>
        <p:spPr>
          <a:xfrm>
            <a:off x="4572000" y="1916280"/>
            <a:ext cx="3173400" cy="228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4716360" y="765000"/>
            <a:ext cx="2665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20070924klpcnafyq_203"/>
          <p:cNvPicPr/>
          <p:nvPr/>
        </p:nvPicPr>
        <p:blipFill>
          <a:blip r:embed="rId1"/>
          <a:stretch/>
        </p:blipFill>
        <p:spPr>
          <a:xfrm>
            <a:off x="826920" y="620640"/>
            <a:ext cx="5910480" cy="3057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195640" y="3213000"/>
            <a:ext cx="59054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se propaga por un sólido sin que haya desplazamiento de las partículas. Solo un movimiento de vibración que se va transmitiendo a las partículas vecinas hasta calentarse todo el cue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to mejor conductor sea el sólido (p. ej. un metal), más fácilmente se ponen en vibración las partíc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os materiales, como los metales, conducen bien el calor y se dice que son buenos conduc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materiales que conducen mal el calor se llaman aisl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195640" y="220500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pagación del calor por con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42920" y="4005360"/>
            <a:ext cx="67788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agación del calor por ra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9"/>
          <p:cNvGraphicFramePr/>
          <p:nvPr/>
        </p:nvGraphicFramePr>
        <p:xfrm>
          <a:off x="971640" y="981000"/>
          <a:ext cx="432432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81000"/>
                    <a:ext cx="432432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3"/>
          <p:cNvSpPr/>
          <p:nvPr/>
        </p:nvSpPr>
        <p:spPr>
          <a:xfrm>
            <a:off x="1332000" y="458136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ste caso lo que se propaga es una radiación infrarroja (onda electromagnética) que no necesita medio de propagación, pudiendo transmitirse por el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estufa-de-cuarzo-de-1500-w-con-montaje-para-pared-hq"/>
          <p:cNvPicPr/>
          <p:nvPr/>
        </p:nvPicPr>
        <p:blipFill>
          <a:blip r:embed="rId3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intos modos de propagación del c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ransmisic3b3n-del-calor-conduccion-conveccion-radiacion-1"/>
          <p:cNvPicPr/>
          <p:nvPr/>
        </p:nvPicPr>
        <p:blipFill>
          <a:blip r:embed="rId1"/>
          <a:stretch/>
        </p:blipFill>
        <p:spPr>
          <a:xfrm>
            <a:off x="1714680" y="1709640"/>
            <a:ext cx="5715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2:33:39Z</dcterms:created>
  <dc:creator>Rafael Moreno</dc:creator>
  <dc:description/>
  <dc:language>en-US</dc:language>
  <cp:lastModifiedBy>Profesor</cp:lastModifiedBy>
  <dcterms:modified xsi:type="dcterms:W3CDTF">2013-04-26T08:52:41Z</dcterms:modified>
  <cp:revision>5</cp:revision>
  <dc:subject/>
  <dc:title>Diapositiva 1</dc:title>
</cp:coreProperties>
</file>